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480825"/>
        <c:axId val="64205745"/>
      </c:barChart>
      <c:catAx>
        <c:axId val="854808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05745"/>
        <c:crosses val="autoZero"/>
        <c:auto val="1"/>
        <c:lblAlgn val="ctr"/>
        <c:lblOffset val="100"/>
        <c:noMultiLvlLbl val="0"/>
      </c:catAx>
      <c:valAx>
        <c:axId val="642057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808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DB5F-DDD8-4E82-9B18-6C38ACE0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D0DB-A241-4FE4-8B0F-B209572D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7EA0-AEFE-48A6-A7D1-FED35604D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BB0E-38CC-4611-A61F-63AA5200E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7D16-9B2C-4A76-9522-AB466156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CE5E-C776-44BE-A27B-CD9190C1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B12C-05FB-41CE-A2E0-3732229B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AF4D-83F7-4506-BCE0-25E19623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8A18-566E-4FD3-92AE-BD29EEB6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7B5D-9328-441F-824C-2E9CD02B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D622-99A7-43F5-A9B5-030458E3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AFD0-E078-4B85-8C8E-96AF4102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C1C65-3AFE-48F8-9589-1B689DE602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