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6962"/>
        <c:axId val="44762401"/>
      </c:barChart>
      <c:catAx>
        <c:axId val="18446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2401"/>
        <c:crosses val="autoZero"/>
        <c:auto val="1"/>
        <c:lblAlgn val="ctr"/>
        <c:lblOffset val="100"/>
        <c:noMultiLvlLbl val="0"/>
      </c:catAx>
      <c:valAx>
        <c:axId val="44762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6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984-866E-4C88-AB36-F04CD341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F40-3F4C-41F8-9992-17DB46FC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9B6-5A7C-4841-9979-1677F970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F8F-4132-447D-B6D5-4EC8D1F6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FE9-B1DF-43A6-8AF8-CC703FB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591-E166-4A8A-BD29-C86F52E4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6AE-6DFD-4643-9177-7E7BD77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820-0E2F-41C1-A90D-7926C344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A39-6E38-4072-AF21-282708C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1AC-04C7-4003-A7F2-BB3C70E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184-A0D3-496B-95B6-7CB8680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1DF-BDB4-47A2-BAF3-86C7BB3B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655CC-5CBE-4A9A-A4DC-AA8BAD76EC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